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97C-D57A-46AB-BF17-BAE35394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9DF-8940-4AC1-928F-37D0F3C5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FA9-E8F7-45DB-BE44-265D77CB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162-9971-40B2-9682-CFE30A76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5245-2DFD-407E-AFBE-B74ABD6A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C9EA-8D5F-41F0-BD84-00974EB8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289E-FD58-4067-9654-ABF89905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4E24-BC33-4ED0-A0C2-D8E8735C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56EA-986E-479F-8BF7-43A87B6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0DFA-BD22-483E-86AF-D1A80D02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3057-5F54-4FBF-B165-64124146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9D8-AF91-476B-BE66-DAD8E4FF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BF06-A69E-4729-8C0E-1A6593F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F59A-D5D2-437B-83C5-D6890A58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541F-2568-40FB-8FB0-8B2BE122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32F2-7F24-4C4A-B8FC-E10B3ED5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A732-DF72-4BA1-90AD-8D31BF1A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1EE-3FAD-43A5-9F6A-6CA8E7EF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9DF-55D8-42BA-AA06-772F1FD9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41A-85A2-4063-A3D8-9838814D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604-54F3-4044-B0FB-4754C6F5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548-3067-4428-9658-3147C3E5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638-603B-43BE-A8EE-290D6D21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EA9-750A-48AB-88FA-64CC374B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5659-BF13-46EE-A4B6-3566E5F11D05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011A-1FD7-45AC-A875-72CC00F41CA9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68263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mbiente de tempo de Execução</a:t>
            </a:r>
            <a:br>
              <a:rPr sz="4600"/>
            </a:b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Sugestão de leitura: Capítulo 7 do livro do Dragão (até 7.3)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280" y="1961640"/>
            <a:ext cx="7954920" cy="43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de ser controlado sinalizando o momento em que se entra e sai de um proce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cedimentos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recursivo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iciam uma ativação antes que uma anterior tenha sido encerr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ão ativações de procedimentos, então seus tempos de vida ou são não sobrepostos ou são aninhados. Isto é, se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é iniciada antes 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r deixada, o controle deve abandona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tes de deixa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280" y="2143080"/>
            <a:ext cx="7954920" cy="403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 um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árvore de ativaçã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nó é uma ativação de um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raiz é a ativação do programa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 nó par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é o pai do nó par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e e somente se o controle fluir da ativação de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nodo par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stá a esquerda do nodo par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e e somente se o tempo de vida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ecorrer antes do tempo de vida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vores de ativação - Exemp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68280"/>
          <a:ext cx="71276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1276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FS da árvore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fluxo de controle em um programa corresponde a uma travessia em profundidade (depth-first search DFS) da árvore de ativaçõ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FS: começa à raiz, visita um nodo antes de seus filhos, e recursivamente visita os filhos a cada nodo numa ordem da esquerda para a direi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699160" y="1557360"/>
          <a:ext cx="31878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1557360"/>
                    <a:ext cx="31878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lha de Contro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controle, o nodo é empilhado para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ando esta iniciar, e é desempilhado quando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rmin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conteúdo d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controle está relacionado a percursos até a raiz da árvore de ativaçõ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scopo de uma declar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955280" cy="43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scopo de uma declara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arte do programa ao qual uma declaração se aplica chama-se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esco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regras de escopo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terminam a declaração de nom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um nome ocorre dentro de um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Global ou não-loc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um nome que ocorre fora de um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marração de no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80200" cy="48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objeto de dado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responde a uma localização de memó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mbiente mapeia o nome ao objeto de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tado mapeia o objeto de dado ao valor armaze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tribuições modificam o estado, mas não 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stá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marrad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 um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bjeto de dad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quando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existe uma associação entr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 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Questões relacionadas à organização da memória e amarração de no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ocedimentos são recursivo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que acontece aos valores dos nomes locais quando o controle retorna d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um procediment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 procedimento pode se referir a nomes não-locai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o são transmitidos os parâmetros quando um procedimento é chama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Questões relacionadas à organização da memória e amarração de no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ocedimentos podem ser transmitidos como parâmetro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ocedimentos podem ser retornados como resultado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de ser reservada dinamicamente sob controle do program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mór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ecisa ser liberada explicitament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m de preparar a geração de código, deve-se relacionar o fonte estático do programa às ações em tempo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nte a execução, o mesmo nome no código fonte pode estar associado a diferentes objetos de dados na máquina al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549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maneira como um compilador organiza a memória para amarrar nomes determ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orte a procedimentos recurs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e do tempo de vida das variáveis loc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ras de referência a nomes não-loc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sagem de parâmetros em chamada de procedi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sagem de procedimento como parâme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ocação dinamica da memó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95528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 geral, um programa compilado obtém um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bloco de memór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 sistema operacional para ser execu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e bloco de memória costuma ser dividido 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ção do código alvo ge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ção de objetos de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ha de controle para ativação de procedi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549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tamanho do código alvo é estático e estabelecido em tempo de compil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tamanho de alguns objetos de dados também é estático, determinado em tempo de compil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controle das chamadas de procedimentos é controlada por uma </a:t>
            </a:r>
            <a:r>
              <a:rPr b="1" i="1" lang="en-GB" sz="3000" spc="-1" strike="noStrike">
                <a:solidFill>
                  <a:srgbClr val="ff0000"/>
                </a:solidFill>
                <a:latin typeface="Arial"/>
              </a:rPr>
              <a:t>pilh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utras informações dinâmicas são alocadas em uma área livre denominada </a:t>
            </a:r>
            <a:r>
              <a:rPr b="1" i="1" lang="en-GB" sz="3000" spc="-1" strike="noStrike">
                <a:solidFill>
                  <a:srgbClr val="ff0000"/>
                </a:solidFill>
                <a:latin typeface="Arial"/>
              </a:rPr>
              <a:t>heap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que cresce para c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36512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182736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os est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230040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911760"/>
            <a:ext cx="281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2778120"/>
            <a:ext cx="2819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89560" y="27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489560" y="361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8064360" cy="12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de controle gerencia ativações de procediment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or convenção, a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cresce para baixo (em direção aos endereços maiores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ória em tempo de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do ocorre uma chamada,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um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é interrompida e as informações sobre o estado da máquina, tais como o valor do apontador da próxima instrução e dos registradores de máquina são salvas 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l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gistro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nformações necessárias em uma únic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um procedimento são gerenciadas utilizando-se um único bloco contíguo de armazenamento chamado 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gistro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528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 procedimento precisa registrar as seguintes informações para ser execu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Valor retornad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contém o valor retornado pela fun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Parâmetros atua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contém o valor dos parâmetros atu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Elo de controle opcio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aponta para o registro de ativação do procedimento que o cham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Elo de acesso opcion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para acessar dados de outros registros de ativ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Registro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95492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m procedimento precisa registrar as seguintes informações para ser executado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Estado da máquin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condição da máquina antes de executar o procedimento, para o qual deve retorn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Dados locai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variáveis locais ao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emporári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resultados de express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8880" y="340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Layout dos Dados Locais em Tempo de Compilaçã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6436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ipo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termina a quantidade d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que deve ser reservada a um 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disposição de memória para objetos de dados é influenciada pelas restrições de endereçamento da máquina-al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r isto, é desejável que as instruções que operem sobre dados do mesmo tipo estejam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alinhada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a garantir o alinhamento, pode ser necessário inserir espaços sem uso chamados </a:t>
            </a:r>
            <a:r>
              <a:rPr b="1" i="1" lang="en-GB" sz="2600" spc="-1" strike="noStrike">
                <a:solidFill>
                  <a:srgbClr val="ff0000"/>
                </a:solidFill>
                <a:latin typeface="Arial"/>
              </a:rPr>
              <a:t>enchimento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9549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projeto de compilador deve incluir estratégias de alocação de memória em cada uma das áreas de d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Alocação de memória estática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– não precisa de suporte em tempo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Alocação de memória de pilh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exige suporte para empilhar/desempilhar registros de ativ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Alocação de heap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– suporte para alocação contígua e liberação aleatória de memória em tempo de exec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88880" y="340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stratégias de alocação de memó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alocação e liberação de objetos de dados é gerenciado pelo ambiente de tempo de execução (runtime environ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e um procedimento é referenciada como um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o caso de chamadas recursivas, várias ativações de um mesmo procedimento estão “vivas” em determinado instante.  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presentação de um objeto de dados em tempo de execução é determinado pelo seu t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qüentemente, tipos de dados elementares, tal como caracteres, inteiros e real, podem ser representados por objetos de dados equivalentes na máquina al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guagem Fon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rocedimentos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definição de procedimento é uma declaração que associa um identificador a um enunci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id listaNomes(int tamLis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} 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rocedimen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280" y="1890360"/>
            <a:ext cx="795492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cedimentos possu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consiste na declaração do procedimento formando por um 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rpo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é o enunciado do proced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râmetros formai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são os identificadores que aparecem na definição de um procedimento (argume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râmetros atuai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são passados ao procedimento durante uma cham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rocedimen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5280" cy="48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Funçõ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ão procedimentos que retornam val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m procedimento é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chamad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quando seu nome aparece dentro de um enunciado executá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ssim que o procedimento é chamado, seu corpo é execu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fluxo de controle sequencial dos procedimentos pode ser exibido na forma de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árvores de ativaçã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dimen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osições sobre o fluxo de controle entre procediment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controle flui seqüencialmente; isto é,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um programa consiste em uma seqüência de passos, com o controle, a cada passo, em algum ponto específico do programa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um procedimento começa ao início do corpo do procedimento e eventualmente retorna o controle para o ponto imediatamente seguinte ao local de onde foi cham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Árvores de Ativ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954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Ativação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é a execução do corpo de um procedimento que possui um </a:t>
            </a:r>
            <a:r>
              <a:rPr b="1" i="1" lang="en-GB" sz="3000" spc="-1" strike="noStrike">
                <a:solidFill>
                  <a:srgbClr val="ff0000"/>
                </a:solidFill>
                <a:latin typeface="Arial"/>
              </a:rPr>
              <a:t>tempo de vid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tempo de vida de um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at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é a seqüência de passos entre o primeiro e o último passos n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o corpo do procedimento, incluindo o tempo utilizado para 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xec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e procedimentos chamad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2:49:25Z</dcterms:created>
  <dc:creator>Marcelo Silva Cintra</dc:creator>
  <dc:description/>
  <dc:language>en-US</dc:language>
  <cp:lastModifiedBy>Marcelo Silva Cintra</cp:lastModifiedBy>
  <dcterms:modified xsi:type="dcterms:W3CDTF">2006-11-23T15:29:45Z</dcterms:modified>
  <cp:revision>51</cp:revision>
  <dc:subject/>
  <dc:title>Ambiente de tempo de Execução</dc:title>
</cp:coreProperties>
</file>